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753-88FB-4192-ADEB-4F065B1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73E-9512-4867-AA9F-47CAFC4F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A17-87AE-4F79-AA19-A7197833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022-D154-4543-A7E1-9B9A7C3E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F88-CE8D-4EEB-85AA-C48670D6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108-69D8-471B-AE14-FEFF9F12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321-325F-42DF-934F-AEE98EF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BCC-BE6B-4D89-B3D0-9188EA0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F89-8E26-4405-877A-33265AAF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896-BD83-415B-A5AE-275FD6F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59E-D6A9-4C48-97E6-C1CC0EC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511-ABB4-4DFA-972F-77B938D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4963-0021-43BD-BC1D-FF5CF61C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 of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ren Chen and Mona Zh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ovement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ages pulled by 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 C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lin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ning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man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divos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ak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48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port 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different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 carries half of Russia's river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s are crow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an lose stuff when they enter the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-takes 8 or more days to travel across 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41:42Z</dcterms:created>
  <dc:creator> </dc:creator>
  <dc:description/>
  <dc:language>en-US</dc:language>
  <cp:lastModifiedBy> </cp:lastModifiedBy>
  <dcterms:modified xsi:type="dcterms:W3CDTF">2010-12-14T15:02:19Z</dcterms:modified>
  <cp:revision>2</cp:revision>
  <dc:subject/>
  <dc:title>Movement of Russia</dc:title>
</cp:coreProperties>
</file>